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F0E5-7B4F-4C39-8182-CA5386F7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E2F-7677-49B7-ACB1-3671FF2E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8BF-8ABD-4D31-BEC3-7BA2B5B7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413-FEB6-4748-B463-B2E1CCDD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856-8FDE-445F-A628-8AF2D17C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F61-73E8-4994-88A4-57321064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C58B-11B0-4EC3-8E77-0E19748C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D01-FF27-4A23-B013-A76A125F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979-44ED-4D76-B708-86A7AD2B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0E9-66D3-4669-AFC1-09FCE14A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DE5-FB4A-4B34-A916-BE3ABA5C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FB6-E7D7-465B-A153-422150AC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762D-443E-4DF5-AD74-F9B6D4AD8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304920" y="1994040"/>
            <a:ext cx="875988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для самостоятельного ре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пределить энергию, переданную линейному одномерному осциллятору под воздействием внешней силы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В момент времени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сциллятор покоился в положении равнове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слабо затухающий одномерный осциллятор действует внешняя сила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Определить среднее за период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начение поглощаемой осцилляторм мощности в установившемся режиме. Показать, что оно равно среднему значению мощности, расзодуемой на тер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1805040" cy="380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7238880" y="2209680"/>
            <a:ext cx="933480" cy="3812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4495680" y="3657600"/>
            <a:ext cx="2746440" cy="5335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5410080" y="4191120"/>
            <a:ext cx="685800" cy="380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ынужденные колебания – это колебания в системе, на которую действует некоторое переменное внешнее по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ункция Лагранжа системы, совершающей вынужденные колебания, имеет ви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1"/>
              <p:cNvSpPr txBox="1"/>
              <p:nvPr/>
            </p:nvSpPr>
            <p:spPr>
              <a:xfrm>
                <a:off x="2819520" y="4648320"/>
                <a:ext cx="3531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Функция Лагранжа системы, совершающей вынужденные колебания, отличается от функции Лагранжа системы, совершающей свободные колебания тем, что в потенциальной энергии появляется чле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авнение движения имеет в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1"/>
              <p:cNvSpPr txBox="1"/>
              <p:nvPr/>
            </p:nvSpPr>
            <p:spPr>
              <a:xfrm>
                <a:off x="3965400" y="3200400"/>
                <a:ext cx="1521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3352680" y="4876920"/>
                <a:ext cx="27781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шение уравнения движения системы, совершающей вынужденные колебания под действием периодической сил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"/>
              <p:cNvSpPr txBox="1"/>
              <p:nvPr/>
            </p:nvSpPr>
            <p:spPr>
              <a:xfrm>
                <a:off x="5646600" y="2590920"/>
                <a:ext cx="3345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γt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685800" y="3962520"/>
                <a:ext cx="79977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γt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случае резонанса, т.е. когда частота вынуждающей силы приближается к сосбственной частоте колебаний системы, решение преобретает ви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"/>
              <p:cNvSpPr txBox="1"/>
              <p:nvPr/>
            </p:nvSpPr>
            <p:spPr>
              <a:xfrm>
                <a:off x="1295280" y="3657600"/>
                <a:ext cx="6748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ω</m:t>
                        </m:r>
                      </m:den>
                    </m:f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нужденные колебания при наличи сил т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сследование вынужденных колебаний при наличи сил трения вполне аналогично рассмотрению колебаний без трения. Особый интерес представляет собой случай периодической вынуждающей си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Уравнение движения системы, совершающей вынужденные колебания при наличи сил трения имеют в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"/>
              <p:cNvSpPr txBox="1"/>
              <p:nvPr/>
            </p:nvSpPr>
            <p:spPr>
              <a:xfrm>
                <a:off x="838080" y="3886200"/>
                <a:ext cx="7823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t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астота, при которой амплитуда вынужденных колебаний при наличии сил трения максимальна, определяется выражение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"/>
              <p:cNvSpPr txBox="1"/>
              <p:nvPr/>
            </p:nvSpPr>
            <p:spPr>
              <a:xfrm>
                <a:off x="3048120" y="3962520"/>
                <a:ext cx="31575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иссипативная функция для одномерного осцилля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ид дисперсионной зависимости поглощения от част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оличество энергии, поглощённой в среднем в единицу времени, как функция частоты внешней силы, в случае одномерного осцилля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"/>
              <p:cNvSpPr txBox="1"/>
              <p:nvPr/>
            </p:nvSpPr>
            <p:spPr>
              <a:xfrm>
                <a:off x="2895480" y="1523880"/>
                <a:ext cx="3988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t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"/>
              <p:cNvSpPr txBox="1"/>
              <p:nvPr/>
            </p:nvSpPr>
            <p:spPr>
              <a:xfrm>
                <a:off x="3505320" y="2819520"/>
                <a:ext cx="26924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λ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5"/>
              <p:cNvSpPr txBox="1"/>
              <p:nvPr/>
            </p:nvSpPr>
            <p:spPr>
              <a:xfrm>
                <a:off x="3276720" y="5638680"/>
                <a:ext cx="3174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Михаил</cp:lastModifiedBy>
  <dcterms:modified xsi:type="dcterms:W3CDTF">2010-10-17T19:53:07Z</dcterms:modified>
  <cp:revision>5</cp:revision>
  <dc:subject/>
  <dc:title>Слайд 1</dc:title>
</cp:coreProperties>
</file>